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4EB8-6456-4F17-99C7-6E8F60C2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6BEA-647A-4C61-A1E2-E01179B9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35D-64AE-42C3-8822-33322ABC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95F5-8CF6-475B-8288-65F62AE6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7BA8-6657-41E2-B844-27DC3E8A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932F-802B-4E06-90DA-90B17B9D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0647-B422-4E36-9A94-F05DB2DD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7C07-69C6-4C3D-957C-C8FECE30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04FD-EE07-41EF-A03A-6D569D82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B26A-5487-4311-BB26-B8C6B564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2E7A-CC79-4554-AFB0-36CC5087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C63-28FD-4A11-9845-9BECF2C4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8544-D734-4063-8D4B-D46B1EB3A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interje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557360"/>
            <a:ext cx="828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221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00360" y="3357720"/>
            <a:ext cx="59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NZ" sz="6600" spc="-1" strike="noStrike">
                <a:solidFill>
                  <a:srgbClr val="008000"/>
                </a:solidFill>
                <a:latin typeface="Arial"/>
              </a:rPr>
              <a:t>inter</a:t>
            </a: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ruptio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4869000"/>
            <a:ext cx="71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Feels rude, like a warning, like excitemen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1700280"/>
            <a:ext cx="1871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o 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7164360" y="549360"/>
            <a:ext cx="865080" cy="2462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788000" y="1628640"/>
            <a:ext cx="201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Y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Sue</cp:lastModifiedBy>
  <dcterms:modified xsi:type="dcterms:W3CDTF">2007-04-21T11:43:20Z</dcterms:modified>
  <cp:revision>29</cp:revision>
  <dc:subject/>
  <dc:title>Simile</dc:title>
</cp:coreProperties>
</file>